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1914"/>
        <c:axId val="17926911"/>
      </c:barChart>
      <c:catAx>
        <c:axId val="3721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26911"/>
        <c:crosses val="autoZero"/>
        <c:auto val="1"/>
        <c:lblAlgn val="ctr"/>
        <c:lblOffset val="100"/>
        <c:noMultiLvlLbl val="0"/>
      </c:catAx>
      <c:valAx>
        <c:axId val="17926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1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F82-BBB1-46AD-858D-D86F6CDF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0AA-B99A-429E-A347-17AD4ACB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53D-7883-46AE-9CEA-2437F6A3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FC5-DB42-403D-ABDA-80FAC676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11B-212D-4387-A034-E6DD2B83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0E3-628C-4B38-91B9-DFD45016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0F6-BC8E-4A25-80E6-2B83E819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75F-7BA4-45E7-8354-0087517C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2EE-4958-4C2D-BE20-864D6F65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3E9-017D-445A-8047-1F98A5F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471-B54E-4C05-A4F7-E1C5BDB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566-7F84-4C24-ADDB-7FF6E999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B5251-FEBE-4C42-AC17-DDEB3642F3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