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98566"/>
        <c:axId val="3921845"/>
      </c:barChart>
      <c:catAx>
        <c:axId val="6809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845"/>
        <c:crosses val="autoZero"/>
        <c:auto val="1"/>
        <c:lblAlgn val="ctr"/>
        <c:lblOffset val="100"/>
        <c:noMultiLvlLbl val="0"/>
      </c:catAx>
      <c:valAx>
        <c:axId val="3921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9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FAC-24F0-4E78-AAA6-2905E063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986-6B4B-4EB7-A6C5-AC9CBF2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F1D-AB9C-4E68-96E2-00A03271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B42-1046-4710-B630-72FA29F9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C35-EC20-49EA-9FA1-11F256D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8EA-BEDB-4D04-8338-3427A16F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866-7E6B-465A-9F20-68E29A70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D26-AF3E-4DF3-8C48-1E014FD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0F8-A7A9-47B6-A10E-A281E12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56B-B389-49DF-9289-DD15C2A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98C-06F6-41EC-B26D-5797D0F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2BA-00D0-4A9B-BB09-1C2F296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D0714-3DFF-445D-BE83-B43CA4967B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