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9D70-6BB9-4968-B63C-C3DA40143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34B1-3DC3-475D-AC79-1DF7E224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EE22-82D3-4FAA-8378-D55D5BC92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32FE-59B8-47C9-A0E0-74C4796E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2A93-3EE6-47BD-854F-805702F7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406F-C95A-42C2-A464-3C06F350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504A-55C9-482F-8A55-3F95AF84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631B-931F-4F6E-B179-E993CBF4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4251-D4EA-44AE-9D35-2085B0D7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5F1B-7C4F-4F09-9487-D0889A3D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4165-AE9F-4711-BB90-FEA18FBB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BE07-739A-4A72-9684-0B21DAB6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9BBA-1FB1-4215-9E98-EBAF2210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578D-F090-4614-BB0E-356E77AF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9B29-25CB-450E-B035-69633BBC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565B-6263-4F27-BE9F-22DB68936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5FFD-0AAE-4C1D-8926-F178211FF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4853-52A0-41F7-81FB-65FBB2D1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7E2B-0828-4F9B-AA4A-81AF6952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8BA2-91A7-45BF-848D-00F8B193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F87E-DB8B-4C74-A8E4-A7B96D6B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E5FF-9E23-4029-8634-F075E026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65CE-9B59-4A95-8C18-FC2E3E7D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1032-B34B-4623-AB3D-825A7DCD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85A1-1E9C-40DC-B136-219EFDFC2295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B80C-66C2-442A-AC6F-A594884FBAFA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162920" y="5943600"/>
            <a:ext cx="29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-1404360" y="-609120"/>
            <a:ext cx="10546560" cy="8965080"/>
            <a:chOff x="-1404360" y="-609120"/>
            <a:chExt cx="10546560" cy="8965080"/>
          </a:xfrm>
        </p:grpSpPr>
        <p:grpSp>
          <p:nvGrpSpPr>
            <p:cNvPr id="57" name=""/>
            <p:cNvGrpSpPr/>
            <p:nvPr/>
          </p:nvGrpSpPr>
          <p:grpSpPr>
            <a:xfrm>
              <a:off x="-1404360" y="-609120"/>
              <a:ext cx="9066240" cy="8965080"/>
              <a:chOff x="-1404360" y="-609120"/>
              <a:chExt cx="9066240" cy="89650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-1404360" y="-609120"/>
                <a:ext cx="9066240" cy="8965080"/>
                <a:chOff x="-1404360" y="-609120"/>
                <a:chExt cx="9066240" cy="8965080"/>
              </a:xfrm>
            </p:grpSpPr>
            <p:sp>
              <p:nvSpPr>
                <p:cNvPr id="59" name=""/>
                <p:cNvSpPr/>
                <p:nvPr/>
              </p:nvSpPr>
              <p:spPr>
                <a:xfrm rot="12360000">
                  <a:off x="-297000" y="55692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1099080" y="1909800"/>
                  <a:ext cx="405828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356868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20491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76488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2360000">
                  <a:off x="30571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485000">
                  <a:off x="20534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620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88476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7520" y="1143000"/>
              <a:ext cx="792468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17AC-0F65-4C7E-B676-C79894A36ED0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0135-4ED1-42EA-A961-D60E23F2B37A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5867280"/>
            <a:ext cx="2954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Back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Mulit-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JanSof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72600" y="0"/>
            <a:ext cx="373392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drijfslogo invoegen op deze 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Figuur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ek het bestand met uw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ormaat van het logo wijzi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ergens in het logo. De vierkantjes die rondom het logo verschijnen worden “formaatgrepen” genoem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uik deze grepen om het formaat van het object te wijzige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s u SHIFT ingedrukt houdt terwijl u de formaatgrepen gebruikt, wordt het formaat van het object proportioneel gewijzig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7F2C493-48F4-4B9B-89FD-4BE820FB16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rne vac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 zoe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31324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302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noem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Wd95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296280" y="152280"/>
            <a:ext cx="358164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F5FA90-0637-4CA0-8F41-5A43827153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Verlof en arbeidsongeschikthei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81448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-schap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3290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scha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329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51360" y="53290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korte tij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angdurig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912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kan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776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 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46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7" name="Wd95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8" name="Wd95" descr=""/>
          <p:cNvPicPr/>
          <p:nvPr/>
        </p:nvPicPr>
        <p:blipFill>
          <a:blip r:embed="rId6"/>
          <a:stretch/>
        </p:blipFill>
        <p:spPr>
          <a:xfrm>
            <a:off x="4629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Wd95" descr=""/>
          <p:cNvPicPr/>
          <p:nvPr/>
        </p:nvPicPr>
        <p:blipFill>
          <a:blip r:embed="rId7"/>
          <a:stretch/>
        </p:blipFill>
        <p:spPr>
          <a:xfrm>
            <a:off x="6915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Wd95" descr=""/>
          <p:cNvPicPr/>
          <p:nvPr/>
        </p:nvPicPr>
        <p:blipFill>
          <a:blip r:embed="rId8"/>
          <a:stretch/>
        </p:blipFill>
        <p:spPr>
          <a:xfrm>
            <a:off x="80010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Wd95" descr=""/>
          <p:cNvPicPr/>
          <p:nvPr/>
        </p:nvPicPr>
        <p:blipFill>
          <a:blip r:embed="rId9"/>
          <a:stretch/>
        </p:blipFill>
        <p:spPr>
          <a:xfrm>
            <a:off x="5829480" y="1905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560F73-9C6E-40D0-B523-E7ABFC0A15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Compensatie en uitkeringe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2558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nivea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26376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oonschal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n bonusbedr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2716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andelen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516096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iek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nsion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dere uitker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6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7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8" name="Wd95" descr=""/>
          <p:cNvPicPr/>
          <p:nvPr/>
        </p:nvPicPr>
        <p:blipFill>
          <a:blip r:embed="rId4"/>
          <a:stretch/>
        </p:blipFill>
        <p:spPr>
          <a:xfrm>
            <a:off x="3809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Wd95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Wd95" descr=""/>
          <p:cNvPicPr/>
          <p:nvPr/>
        </p:nvPicPr>
        <p:blipFill>
          <a:blip r:embed="rId6"/>
          <a:stretch/>
        </p:blipFill>
        <p:spPr>
          <a:xfrm>
            <a:off x="7467480" y="22096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98A719-DF24-471E-BB14-B93F01431A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 Fe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niversal Syntax highl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Internet Expl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XML 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Scriptable from VBScript and 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Directory wide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ser To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75248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438280"/>
            <a:ext cx="91440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7196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87972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89640"/>
            <a:ext cx="91440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299200"/>
            <a:ext cx="9144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8F6E20-1B9E-4061-B1BF-8E6AB22D29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yntax highlight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ursuss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schrijving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Roos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4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49200" y="6477120"/>
            <a:ext cx="1570320" cy="380880"/>
            <a:chOff x="1249200" y="6477120"/>
            <a:chExt cx="1570320" cy="380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249200" y="6477120"/>
              <a:ext cx="157032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71600" y="6491160"/>
              <a:ext cx="144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Inschrijving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497880" y="76320"/>
            <a:ext cx="358164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p95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Wd95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Wd95" descr=""/>
          <p:cNvPicPr/>
          <p:nvPr/>
        </p:nvPicPr>
        <p:blipFill>
          <a:blip r:embed="rId4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Wd95" descr=""/>
          <p:cNvPicPr/>
          <p:nvPr/>
        </p:nvPicPr>
        <p:blipFill>
          <a:blip r:embed="rId5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Wd95" descr=""/>
          <p:cNvPicPr/>
          <p:nvPr/>
        </p:nvPicPr>
        <p:blipFill>
          <a:blip r:embed="rId6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Pp95" descr=""/>
          <p:cNvPicPr/>
          <p:nvPr/>
        </p:nvPicPr>
        <p:blipFill>
          <a:blip r:embed="rId7"/>
          <a:stretch/>
        </p:blipFill>
        <p:spPr>
          <a:xfrm>
            <a:off x="515628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Pp95" descr=""/>
          <p:cNvPicPr/>
          <p:nvPr/>
        </p:nvPicPr>
        <p:blipFill>
          <a:blip r:embed="rId8"/>
          <a:stretch/>
        </p:blipFill>
        <p:spPr>
          <a:xfrm>
            <a:off x="650232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Pp95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2E332-231F-4E32-839E-144683058B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grated IE brows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oordelings-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Schema's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instruc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44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agiai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Niet-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oordel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ch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struc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agen 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twoord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Wd95" descr=""/>
          <p:cNvPicPr/>
          <p:nvPr/>
        </p:nvPicPr>
        <p:blipFill>
          <a:blip r:embed="rId2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Wd95" descr=""/>
          <p:cNvPicPr/>
          <p:nvPr/>
        </p:nvPicPr>
        <p:blipFill>
          <a:blip r:embed="rId3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Wd95" descr=""/>
          <p:cNvPicPr/>
          <p:nvPr/>
        </p:nvPicPr>
        <p:blipFill>
          <a:blip r:embed="rId4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Wd95" descr=""/>
          <p:cNvPicPr/>
          <p:nvPr/>
        </p:nvPicPr>
        <p:blipFill>
          <a:blip r:embed="rId5"/>
          <a:stretch/>
        </p:blipFill>
        <p:spPr>
          <a:xfrm>
            <a:off x="6629400" y="4191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Wd95" descr=""/>
          <p:cNvPicPr/>
          <p:nvPr/>
        </p:nvPicPr>
        <p:blipFill>
          <a:blip r:embed="rId6"/>
          <a:stretch/>
        </p:blipFill>
        <p:spPr>
          <a:xfrm>
            <a:off x="79246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Pp95" descr=""/>
          <p:cNvPicPr/>
          <p:nvPr/>
        </p:nvPicPr>
        <p:blipFill>
          <a:blip r:embed="rId7"/>
          <a:stretch/>
        </p:blipFill>
        <p:spPr>
          <a:xfrm>
            <a:off x="51814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p95" descr=""/>
          <p:cNvPicPr/>
          <p:nvPr/>
        </p:nvPicPr>
        <p:blipFill>
          <a:blip r:embed="rId8"/>
          <a:stretch/>
        </p:blipFill>
        <p:spPr>
          <a:xfrm>
            <a:off x="3809880" y="4191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72600" y="76320"/>
            <a:ext cx="358128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08B50A-908D-4CC3-92CF-1A21FA0A15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XML Edito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81448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lan voor verbet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17680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restatie-verbeteringspla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verand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7" name="Wd95" descr=""/>
          <p:cNvPicPr/>
          <p:nvPr/>
        </p:nvPicPr>
        <p:blipFill>
          <a:blip r:embed="rId5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D92B22-25A4-4E1F-A159-30449309FF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criptabl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7160" y="227952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7160" y="2967120"/>
            <a:ext cx="9144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7160" y="367668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7160" y="440676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21776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VBScript 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HTML p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Opzeg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rne vac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FBA932-2259-4CBF-928D-E0848CF0D4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Directory oper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1448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ond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udent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schrij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i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Wd95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Wd95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Wd95" descr=""/>
          <p:cNvPicPr/>
          <p:nvPr/>
        </p:nvPicPr>
        <p:blipFill>
          <a:blip r:embed="rId4"/>
          <a:stretch/>
        </p:blipFill>
        <p:spPr>
          <a:xfrm>
            <a:off x="7924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Wd95" descr=""/>
          <p:cNvPicPr/>
          <p:nvPr/>
        </p:nvPicPr>
        <p:blipFill>
          <a:blip r:embed="rId5"/>
          <a:stretch/>
        </p:blipFill>
        <p:spPr>
          <a:xfrm>
            <a:off x="37339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1" name="Wd95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2" name="Wd95" descr=""/>
          <p:cNvPicPr/>
          <p:nvPr/>
        </p:nvPicPr>
        <p:blipFill>
          <a:blip r:embed="rId7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33" name="Wd95" descr=""/>
          <p:cNvPicPr/>
          <p:nvPr/>
        </p:nvPicPr>
        <p:blipFill>
          <a:blip r:embed="rId8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4C7726-4A82-4615-95F1-2A3B777B0A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User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1448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verplaats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lders vestig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n 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zoek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 overplaats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stiging eld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53132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Wd9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50" name="Wd95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Wd95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Wd95" descr=""/>
          <p:cNvPicPr/>
          <p:nvPr/>
        </p:nvPicPr>
        <p:blipFill>
          <a:blip r:embed="rId4"/>
          <a:stretch/>
        </p:blipFill>
        <p:spPr>
          <a:xfrm>
            <a:off x="567684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Wd95" descr=""/>
          <p:cNvPicPr/>
          <p:nvPr/>
        </p:nvPicPr>
        <p:blipFill>
          <a:blip r:embed="rId5"/>
          <a:stretch/>
        </p:blipFill>
        <p:spPr>
          <a:xfrm>
            <a:off x="7543800" y="4343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2B19D1-3649-430F-9914-B07C39D813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Opzegg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-plan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9596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regel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slag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51656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lternatiev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oor opzegg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3" name="Wd9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Wd95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Wd95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72600" y="152280"/>
            <a:ext cx="3581280" cy="662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D67C02-458B-4AD8-AB34-62C600BF43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5:39:54Z</dcterms:created>
  <dc:creator>Jan Verhoeven</dc:creator>
  <dc:description/>
  <dc:language>en-US</dc:language>
  <cp:lastModifiedBy>Jan Verhoeven</cp:lastModifiedBy>
  <cp:lastPrinted>1995-12-08T18:02:18Z</cp:lastPrinted>
  <dcterms:modified xsi:type="dcterms:W3CDTF">2001-07-15T15:58:12Z</dcterms:modified>
  <cp:revision>5</cp:revision>
  <dc:subject/>
  <dc:title>&lt;XYZ N.V.&gt;</dc:title>
</cp:coreProperties>
</file>