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3365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152280"/>
            <a:ext cx="7772400" cy="147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800" spc="-1" strike="noStrike">
                <a:solidFill>
                  <a:srgbClr val="f6bf69"/>
                </a:solidFill>
                <a:latin typeface="Arial"/>
                <a:ea typeface="Arial"/>
              </a:rPr>
              <a:t>Bundle SunPC</a:t>
            </a:r>
            <a:r>
              <a:rPr b="0" lang="en-US" sz="4800" spc="-1" strike="noStrike" baseline="30000">
                <a:solidFill>
                  <a:srgbClr val="f6bf69"/>
                </a:solidFill>
                <a:latin typeface="Arial"/>
                <a:ea typeface="Arial"/>
              </a:rPr>
              <a:t>™</a:t>
            </a:r>
            <a:br>
              <a:rPr sz="1800"/>
            </a:br>
            <a:r>
              <a:rPr b="0" i="1" lang="en-US" sz="2800" spc="-1" strike="noStrike">
                <a:solidFill>
                  <a:srgbClr val="f6bf69"/>
                </a:solidFill>
                <a:latin typeface="Arial"/>
                <a:ea typeface="Arial"/>
              </a:rPr>
              <a:t>Eseguire le applicazioni per MS-DOS su SPARC</a:t>
            </a:r>
            <a:r>
              <a:rPr b="0" i="1" lang="en-US" sz="2400" spc="-1" strike="noStrike">
                <a:solidFill>
                  <a:srgbClr val="f6bf69"/>
                </a:solidFill>
                <a:latin typeface="Arial"/>
                <a:ea typeface="Arial"/>
              </a:rPr>
              <a:t>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04920" y="1752480"/>
            <a:ext cx="46227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 un bundle hardware/software SunPC, gli utenti SPARC dispongono della soluzion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iù rapid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er eseguire le applicazioni per MS-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bundle SunPC supportano inoltre le applicazioni per Microsoft Windows oltre alle applicazioni presenti nell’elenco certificato del software Wab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PC 4.1 supporta i protocolli di rete PC più comuni, incluso il TCP/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5181480" y="1752480"/>
            <a:ext cx="3854520" cy="28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 ulteriori informazioni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 SunPC , chiamare il numero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12/434-1511, premere #1. In alternativa, accedere al nostro indirizzo su World Wide Web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sun.com/sunsoft/Products/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-Integration-produ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181480" y="5094360"/>
            <a:ext cx="365112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 informazioni su come acquistare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PC, chiamare il numero 512/434-1511, premere #2. In alternativa, rivolgersi al rivenditore Sun loca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