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198067"/>
        <c:axId val="42323484"/>
      </c:barChart>
      <c:catAx>
        <c:axId val="811980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323484"/>
        <c:crosses val="autoZero"/>
        <c:auto val="1"/>
        <c:lblAlgn val="ctr"/>
        <c:lblOffset val="100"/>
        <c:noMultiLvlLbl val="0"/>
      </c:catAx>
      <c:valAx>
        <c:axId val="423234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1980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0C63-D2CC-44C3-A6A2-720DBC790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8C3F-1C5D-4DF1-A23F-B0E37E798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D693-1E3D-4F50-A1E2-CE1A126B4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98C8-B567-4E0B-8547-5E192B347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EDDF-5A79-41F7-891A-61A5853FE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E10B-09F3-44B0-9D5E-56BB9D0BF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AC13-5392-4C71-915B-8F0AE95F1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3932-7E43-4D81-AC43-7B95D1844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9BBC-4464-42A6-96A5-909F7BA1F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E1B7-0F66-4F2F-AE5C-2439502B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E5EC-FB88-4924-9B4F-46EC2FEC2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0009-063E-422C-B725-C199FA690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41650F-68A2-4C49-8FC6-DCB3848F761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