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05982"/>
        <c:axId val="44311323"/>
      </c:barChart>
      <c:catAx>
        <c:axId val="87205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11323"/>
        <c:crosses val="autoZero"/>
        <c:auto val="1"/>
        <c:lblAlgn val="ctr"/>
        <c:lblOffset val="100"/>
        <c:noMultiLvlLbl val="0"/>
      </c:catAx>
      <c:valAx>
        <c:axId val="44311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05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6BE-C5DA-46A8-B5A9-FE42A6AF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C79-7DED-451E-A43F-2717DF94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82A-B9AD-467E-AD13-EE2BFECF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FEB-1C27-440D-8E5A-3B9946C1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409-87A4-4CA2-BA52-76435B9F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DC4-E907-4CD0-8577-C4DB7C8A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A76-9D0D-4AE9-A71D-C1E089A9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BB7-647C-467B-ABF7-A0746768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FF0-0A66-4673-80F6-D3EC26C3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937-01BF-4602-8849-F75651D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69F-5C7B-4D39-8C66-A532536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F51-CD04-4BA4-AD6B-2D79C086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F5E78-F05C-48A8-A16F-70A7CE0F92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