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76132"/>
        <c:axId val="343275"/>
      </c:barChart>
      <c:catAx>
        <c:axId val="63076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275"/>
        <c:crosses val="autoZero"/>
        <c:auto val="1"/>
        <c:lblAlgn val="ctr"/>
        <c:lblOffset val="100"/>
        <c:noMultiLvlLbl val="0"/>
      </c:catAx>
      <c:valAx>
        <c:axId val="343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76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845-196C-49F0-AF49-EEEE4CBB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680-F035-4955-A421-4E535212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EA2-9A99-41FF-922A-43FCCBAC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241-1F0A-4890-B678-4B9FFD3F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89A-DF82-4C70-AA78-58144108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D5B-39F6-472C-B004-E5BC5493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8AA-47FA-4A31-AFED-476AB19F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726-8C13-464B-AE64-87E345B7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A7F-5775-483E-A7E7-DD868A41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059-A7C9-4FCA-AD09-B3191249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7C1-36B0-4E3D-93CD-3DA8D89B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6C8-5D92-4C3A-9873-ED649AF5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494CE-A233-4FFD-A038-B42686C94D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