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57252"/>
        <c:axId val="21350751"/>
      </c:barChart>
      <c:catAx>
        <c:axId val="19857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50751"/>
        <c:crosses val="autoZero"/>
        <c:auto val="1"/>
        <c:lblAlgn val="ctr"/>
        <c:lblOffset val="100"/>
        <c:noMultiLvlLbl val="0"/>
      </c:catAx>
      <c:valAx>
        <c:axId val="21350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57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97A-A8F3-4C4C-805B-D9EFF522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31D-3376-4151-8ECA-AB06E2CA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E5C-8A3D-4CD2-82E1-66581788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83F-07ED-4E71-8432-B2A9E1BA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365-1E29-49D8-815F-E5C8DE59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CC8-3E61-401D-8E62-E668346F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63E-2340-4427-B0B6-1ADDA8FC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E99-EA27-4725-991B-DD3154EF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99DE-9F6E-407F-8429-5770BA72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99A6-EA15-4A3C-AB5B-0EBEF894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ED7-0C79-4671-A43D-74792354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2C7-86A4-4527-9CEA-44B229AD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F1561-FD73-4DBD-903F-987393B9EC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