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97426"/>
        <c:axId val="95373593"/>
      </c:barChart>
      <c:catAx>
        <c:axId val="60897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73593"/>
        <c:crosses val="autoZero"/>
        <c:auto val="1"/>
        <c:lblAlgn val="ctr"/>
        <c:lblOffset val="100"/>
        <c:noMultiLvlLbl val="0"/>
      </c:catAx>
      <c:valAx>
        <c:axId val="95373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97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0D3-3CD3-45C9-A49B-AC03EA7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9E8-305F-42B2-9D07-2D7CF28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DAB-23D5-452C-AAF9-334D70B3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FBB-5062-4687-967E-07FF8DC3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535-9F9A-4885-BF98-D89B8DE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5BE-B1F1-4AD6-BF3F-0F7C29A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768-6A28-4E69-8EF4-35A767D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731-BF82-4474-8565-C53D5B3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B5A-5306-4E14-A228-162BF0F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6DB-5399-44F3-B5DA-DBA3811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275-9D5A-4A1C-9819-7A77D97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7DC-3691-4C86-BABE-1ADC907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734CE-DC7C-46D7-AEC6-44E373FB9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