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88775"/>
        <c:axId val="56871990"/>
      </c:barChart>
      <c:catAx>
        <c:axId val="49188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71990"/>
        <c:crosses val="autoZero"/>
        <c:auto val="1"/>
        <c:lblAlgn val="ctr"/>
        <c:lblOffset val="100"/>
        <c:noMultiLvlLbl val="0"/>
      </c:catAx>
      <c:valAx>
        <c:axId val="56871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88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4D0-C629-4DD7-B672-FBF04588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84D-32B7-47A3-AA15-88138CB5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4A6-9E57-4C52-A230-172CD2A3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91C-D341-4191-A687-0AADDECA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B5C-F558-45E2-9719-43BDD69D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E25-7FCA-418D-B537-6442F3E4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0C1-1CCA-464F-8C74-AF7EBDD3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DA2-9AC9-4FF9-81F4-8BACC873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377-0ED0-4968-AB62-874BD1D3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392-4F3A-4BA6-A52F-D9DF4783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4A6-843C-4080-A325-68633226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137-747C-444F-A3F5-048CB345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E3B41-6E34-42E3-B17D-0F02BF9C9C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