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ür das Betriebssystem Solar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86 </a:t>
            </a:r>
            <a:br>
              <a:rPr sz="18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utzen Sie Ihre MS-DOS-Anwendungen auf Intel-System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380880" y="1219320"/>
            <a:ext cx="8534520" cy="5486400"/>
            <a:chOff x="380880" y="1219320"/>
            <a:chExt cx="8534520" cy="5486400"/>
          </a:xfrm>
        </p:grpSpPr>
        <p:sp>
          <p:nvSpPr>
            <p:cNvPr id="41" name=""/>
            <p:cNvSpPr txBox="1"/>
            <p:nvPr/>
          </p:nvSpPr>
          <p:spPr>
            <a:xfrm>
              <a:off x="380880" y="1219320"/>
              <a:ext cx="4572000" cy="548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559"/>
                </a:spcBef>
                <a:buClr>
                  <a:srgbClr val="000000"/>
                </a:buClr>
                <a:buSzPct val="75000"/>
                <a:buFont typeface="Wingding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urch „Merge“ für das Betriebssystem Solaris x86 können Sie von der Leistungsfähigkeit zweier Betriebssysteme profitieren –   MS-DOS und Solar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59"/>
                </a:spcBef>
                <a:buClr>
                  <a:srgbClr val="000000"/>
                </a:buClr>
                <a:buSzPct val="75000"/>
                <a:buFont typeface="Wingding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Über „Merge“ können Anwender von  Solaris x86 Tausende von Standard-MS-DOS-Anwendungen nutze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59"/>
                </a:spcBef>
                <a:buClr>
                  <a:srgbClr val="000000"/>
                </a:buClr>
                <a:buSzPct val="75000"/>
                <a:buFont typeface="Wingdings"/>
                <a:buChar char=""/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„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rge“ unterstützt auch Microsoft Windows-Anwendungen, die nicht in der Liste der von Wabi™ unterstützten Anwendungen enthalten si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 txBox="1"/>
            <p:nvPr/>
          </p:nvSpPr>
          <p:spPr>
            <a:xfrm>
              <a:off x="5181480" y="1222200"/>
              <a:ext cx="3733920" cy="252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itere Information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u Merge oder anderen SunSoft-Produkten erhalten unter 512/434-1511. Drücken Sie die „1“.  Sie können auch unsere Homepage im World Wide Web nutze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://www.sun.com/sunsoft/Products/PC-Integration-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"/>
          <p:cNvSpPr txBox="1"/>
          <p:nvPr/>
        </p:nvSpPr>
        <p:spPr>
          <a:xfrm>
            <a:off x="5181480" y="4038480"/>
            <a:ext cx="3733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m Kauf von Me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fen Sie 512/434-1511 an. Drücken Sie die „2“. Sie können sich auch an Ihren Sun-Händler we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