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irtual Macintosh for Ope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601640"/>
            <a:ext cx="46576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Macintosh® applications on your SPARC workstation running Solaris 2.3 or 2.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gives you the full System 7.1 environment, including the Fi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includes AppleTalk support, performance enhancements, Mac TCP, sound and much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257800" y="1601640"/>
            <a:ext cx="37339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ore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, access the MAE Web site at UR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ccess the MAE ftp site 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support.apple.com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/pub/mae directory). A trial copy of MAE 1.0 is available on the current SunSoft Catalyst CDWare™ for SPARC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57800" y="4770360"/>
            <a:ext cx="37339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urch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in the U.S. call 1-800-769-2775, ext. 7675 (code Sun1). Or, contact your local Apple rese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