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83426"/>
        <c:axId val="52142055"/>
      </c:barChart>
      <c:catAx>
        <c:axId val="65183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42055"/>
        <c:crosses val="autoZero"/>
        <c:auto val="1"/>
        <c:lblAlgn val="ctr"/>
        <c:lblOffset val="100"/>
        <c:noMultiLvlLbl val="0"/>
      </c:catAx>
      <c:valAx>
        <c:axId val="52142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83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9FD-BFD4-4624-865C-FDAB6670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E6D-4370-4E8E-BA5B-5D4E458A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CF6-B722-4564-9461-30187443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3EA-2A21-42FF-B402-20F60264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4E7-647B-4B10-8053-9FD03B75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266-5A1E-42F6-B9CD-D79BB443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701-06D7-44D5-8A42-65EFF45A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875-56D6-499C-8167-02CF24E6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5CB-2958-4F85-A77D-4BB49CA9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550-878A-4B47-A044-4596FA6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B17-20DA-4B52-96BB-95CD3318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AFD-A145-4AA0-AAF3-894E6DB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96C35-89A0-401B-9379-89CB6DD23D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