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55075"/>
        <c:axId val="73581916"/>
      </c:barChart>
      <c:catAx>
        <c:axId val="789550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81916"/>
        <c:crosses val="autoZero"/>
        <c:auto val="1"/>
        <c:lblAlgn val="ctr"/>
        <c:lblOffset val="100"/>
        <c:noMultiLvlLbl val="0"/>
      </c:catAx>
      <c:valAx>
        <c:axId val="735819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550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3CB0-9F8B-4B26-AF2B-AE2E6128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827-4AE8-4BEB-ACD0-5E365D46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3FE-39A0-4782-890D-462354EB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9B6-B7B5-4C47-99D6-4DD08207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1E8-2D18-4305-84A0-E5FF9C23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B9B-8E01-40FB-9B71-67F0B749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C1B-D828-4B23-9B27-43B48A99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2D93-F392-4532-B991-6824FA60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F0EB-0625-4F06-AC08-4FDDFC97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5E3-9F89-46F0-A854-833B1904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98F-9C74-434C-8E1D-EE256B5C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6E9A-7979-4C01-B22A-17F23ADF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7A569-3046-4A1B-B17A-1BD6EEFD2A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