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6053"/>
        <c:axId val="66536901"/>
      </c:barChart>
      <c:catAx>
        <c:axId val="3636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36901"/>
        <c:crosses val="autoZero"/>
        <c:auto val="1"/>
        <c:lblAlgn val="ctr"/>
        <c:lblOffset val="100"/>
        <c:noMultiLvlLbl val="0"/>
      </c:catAx>
      <c:valAx>
        <c:axId val="66536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C72-89A6-41E9-B818-E6FE7D64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F44-D24D-4A3A-A3A0-8F15B194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252-00C4-4ACA-A5F3-3E391740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0C0-9851-4185-88AB-D130D8B5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D3A-FDB1-44E5-9E67-F4A3F70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E93-7F39-47B7-9B76-47329ACD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872-A4D9-4FA9-9890-19D6C4D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5F0-FC36-4570-8D58-A215FE3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AB5-3DA1-4DF8-88B3-1F825A1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113-6534-4611-B26D-DD23F43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C85-FF39-4CDD-A1AA-578D9AEF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AF4-47C4-4CB0-8680-C5811F0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01511-5F83-491D-AF31-ADA8513EE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