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475933"/>
        <c:axId val="67551844"/>
      </c:barChart>
      <c:catAx>
        <c:axId val="584759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551844"/>
        <c:crosses val="autoZero"/>
        <c:auto val="1"/>
        <c:lblAlgn val="ctr"/>
        <c:lblOffset val="100"/>
        <c:noMultiLvlLbl val="0"/>
      </c:catAx>
      <c:valAx>
        <c:axId val="675518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4759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BB78-9BB0-4F52-A4F2-4BBF3C850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6916-5CD3-47C7-AC80-00211375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2DB3-35FE-42FB-A044-F2283F387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C8C7-B5F7-47A3-8E79-907133CA2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B910-4ED7-4EE5-8726-88A4E8A0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06AC-D89C-437C-92D3-46B7F9F7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E286-612D-47CB-B329-23B80824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1CDF-491D-4CE5-B7BB-66D3C35F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F609-E9A4-4F36-91DF-94BCD4E3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4DDA-E4D0-4014-97C1-E503739A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92A5-C2A9-4716-9B29-335D693C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E7EC-5ED0-4BE8-BCEF-5F0B2BE2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421479-3713-4787-BA09-55792E4E57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