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22500"/>
        <c:axId val="82639006"/>
      </c:barChart>
      <c:catAx>
        <c:axId val="87522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39006"/>
        <c:crosses val="autoZero"/>
        <c:auto val="1"/>
        <c:lblAlgn val="ctr"/>
        <c:lblOffset val="100"/>
        <c:noMultiLvlLbl val="0"/>
      </c:catAx>
      <c:valAx>
        <c:axId val="82639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2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CEB-16EA-4420-B4ED-15F8557F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6C8-CBE3-41D4-B0CB-5799D7C6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981-0F32-41BD-8967-DBC78800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994-6977-482C-9B7F-6D1F69EA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4EC-EDB0-41D8-938A-054EA70B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87E-38C6-4C46-A574-950D65BC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6F8-6EC7-419A-AD62-51077C8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0E0-99FD-4C8B-8A8A-64C2F17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A9F-11D9-4F45-9DCA-0F65CCE3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E55-821B-4A10-B21E-9182DEF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8E8-C27A-41BF-A702-43D63FAF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40A-5287-4BEE-8263-097C3CC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386B3-8C46-4F8D-A349-AFB107179F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