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79507"/>
        <c:axId val="41320346"/>
      </c:barChart>
      <c:catAx>
        <c:axId val="56879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20346"/>
        <c:crosses val="autoZero"/>
        <c:auto val="1"/>
        <c:lblAlgn val="ctr"/>
        <c:lblOffset val="100"/>
        <c:noMultiLvlLbl val="0"/>
      </c:catAx>
      <c:valAx>
        <c:axId val="41320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79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220-70CA-478D-A2FC-E0F9CA74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8D3-ED5F-490B-A6F7-81058CFE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C19-3EDC-4E70-BD65-732E817C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567-5881-4B06-99D2-E0A9DE27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A94-E7A3-4861-9BAB-371FE50A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919-AEA3-48D2-941E-3C24112E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FF7-822F-4644-A7C1-347D91D5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EAC-7FE6-4B2E-AB93-63784005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7F3-6C26-4659-A867-D18F2A24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AFC-44A5-4954-B463-66BCCD1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EAD-C750-4C59-93FB-E73EA07B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CB1-DFC6-466C-86D9-CCD4AE10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C3EFB-89E5-4B34-B32A-FF04BF3751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