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372"/>
        <c:axId val="94692141"/>
      </c:barChart>
      <c:catAx>
        <c:axId val="3024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2141"/>
        <c:crosses val="autoZero"/>
        <c:auto val="1"/>
        <c:lblAlgn val="ctr"/>
        <c:lblOffset val="100"/>
        <c:noMultiLvlLbl val="0"/>
      </c:catAx>
      <c:valAx>
        <c:axId val="94692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C1E-4734-403A-8EB6-E48FFB6C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764-F1E9-4A7E-B5AB-75D7F128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33B-31B1-4D0C-A14A-3E734AB6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860-90FE-4534-B7F9-DF141B3C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E02-2C80-4604-9E46-287960F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0FC-5515-4B33-AD03-8BB2A09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706-D230-4462-BD57-E204A8C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D7A-D92D-402C-898D-9CB725F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C8D-4736-405A-8940-33AB3E50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A1E-B5B8-4B0D-8E8B-0FAFBA2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574-0666-44E8-9D13-BD289DA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F51-C7EE-4DDD-B3C2-EE31F87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044DE-23F4-46A9-8DF2-B9861E5CC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