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469832"/>
        <c:axId val="23372557"/>
      </c:barChart>
      <c:catAx>
        <c:axId val="34469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72557"/>
        <c:crosses val="autoZero"/>
        <c:auto val="1"/>
        <c:lblAlgn val="ctr"/>
        <c:lblOffset val="100"/>
        <c:noMultiLvlLbl val="0"/>
      </c:catAx>
      <c:valAx>
        <c:axId val="233725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69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0EA-C081-4860-82C1-BCD9740D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5C5-570B-4420-B9FB-6878D4D8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86A6-8AAE-4A5C-85FD-3D91D264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A1D-ABC1-46E4-88E5-C17D8877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0C5-5BC8-476B-ADC8-EC91F23D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D09-C82A-4971-86B9-822BD694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827-AA38-4FCC-AE30-FE9A16CE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53F-94A5-4499-9858-D0B8AE44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3AF7-FBFA-4FDF-8053-9B4FBB72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6B2-0F53-424A-885B-70F940B7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4728-8FEF-4C33-8325-6548E6A2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8A4-BFBC-4E91-8A6B-459E38D0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8F81B-E73B-457D-9B20-2F693620E1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