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28802"/>
        <c:axId val="75633350"/>
      </c:barChart>
      <c:catAx>
        <c:axId val="75288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33350"/>
        <c:crosses val="autoZero"/>
        <c:auto val="1"/>
        <c:lblAlgn val="ctr"/>
        <c:lblOffset val="100"/>
        <c:noMultiLvlLbl val="0"/>
      </c:catAx>
      <c:valAx>
        <c:axId val="756333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88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0CEB-817B-42A5-BB70-C0E66B7C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5032-A6EF-4535-A330-4ACCE8A6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C224-428D-49F7-846A-0A07C69F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DB3-A9E2-46C9-9A66-A0B5E23E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4598-E7DB-44A5-A1F0-665F99C5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1AEA-5DB8-4BE9-A526-F5ED2075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EE90-96E2-40E4-A06E-BCA9359C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C94F-2F74-435A-8925-9C999ACA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A4BB-02A9-479E-A9D9-B32EC9A0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75E7-CC9B-41E7-98B9-344C8B99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2801-104E-4284-9CBD-4F17A83D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9340-A756-47C2-B815-1DDA913D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F16D2-D532-4AC8-92D2-0FDED86959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