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2528"/>
        <c:axId val="52371173"/>
      </c:barChart>
      <c:catAx>
        <c:axId val="9612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71173"/>
        <c:crosses val="autoZero"/>
        <c:auto val="1"/>
        <c:lblAlgn val="ctr"/>
        <c:lblOffset val="100"/>
        <c:noMultiLvlLbl val="0"/>
      </c:catAx>
      <c:valAx>
        <c:axId val="52371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2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705-7B62-4AC0-8074-482B5E12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40D-4BDA-4B8B-8D28-A3AECB8B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A23-0411-41F9-AF5A-8F9E9BB4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686-2369-472D-B38B-1318A84D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C79-84C4-49BD-9DA3-CCD81CB0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030-1ADF-4315-B467-A0890B3D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761-2637-4C75-8833-38933BCF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A3B-7FA0-4639-8B00-488B5096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0C7-307A-4EE4-8889-A0D4B33E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729-4497-45B0-93B0-59C97D59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E2B-3127-4F40-AE83-5B03B4FE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0F3-061C-47E2-ABCA-B9B8C8C2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895D0-8B5F-463D-849C-01BE6A9EC0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