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24395"/>
        <c:axId val="93166488"/>
      </c:barChart>
      <c:catAx>
        <c:axId val="494243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66488"/>
        <c:crosses val="autoZero"/>
        <c:auto val="1"/>
        <c:lblAlgn val="ctr"/>
        <c:lblOffset val="100"/>
        <c:noMultiLvlLbl val="0"/>
      </c:catAx>
      <c:valAx>
        <c:axId val="93166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243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B3D-E4BA-43EB-B828-1BC330BC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261-9483-4F62-9507-4D1E7442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D37-9F5A-4D3F-965A-65F35D32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0EB-2452-419F-9AA8-69B8C76B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0B6-2E2E-4292-98CE-6DAAC514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DF2-C5A5-4833-B206-D9F746C7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341-CE3A-4803-8ABF-69EC9C09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A27-06B3-4779-A38A-8152CA3A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724-66E6-4D1C-A36D-D87F0F72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AD0-8FBC-459D-BDAA-DFCD8427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7E0-4CDC-468D-B5D9-78ACCD63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9FF-5439-4AA0-8CB9-D8CC71F3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7E45D-C16A-411F-8A3D-94B0F6B806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