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18460"/>
        <c:axId val="21379306"/>
      </c:barChart>
      <c:catAx>
        <c:axId val="93618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79306"/>
        <c:crosses val="autoZero"/>
        <c:auto val="1"/>
        <c:lblAlgn val="ctr"/>
        <c:lblOffset val="100"/>
        <c:noMultiLvlLbl val="0"/>
      </c:catAx>
      <c:valAx>
        <c:axId val="21379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18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347-0536-45F6-81DE-C2F6854D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008-FA80-4CCA-BB28-3C8C7607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695-4D40-42E7-B87E-DB189BBE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4B8-E583-4B8D-A2F3-18ECFB01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40A-A6A2-4D7A-B7F2-98F7AEEF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462-4C4B-46D3-8844-309EFF3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B12-84DB-4B83-B7EC-19637347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32F-DA76-4C21-94B6-716F5D5C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13F-9BC6-4BE8-A198-EBF21527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F1A-6754-40C8-BF04-656F119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DA6-542D-492D-8B9F-E95E22B4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33E-9285-4DF6-B0D0-3543C346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31D18-027F-49AE-A2D9-6645766A1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