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88041"/>
        <c:axId val="98728795"/>
      </c:barChart>
      <c:catAx>
        <c:axId val="71588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28795"/>
        <c:crosses val="autoZero"/>
        <c:auto val="1"/>
        <c:lblAlgn val="ctr"/>
        <c:lblOffset val="100"/>
        <c:noMultiLvlLbl val="0"/>
      </c:catAx>
      <c:valAx>
        <c:axId val="98728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88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1B8-731C-4868-9167-4922180D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08F-CD9C-408C-824F-B6098D35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7A6-1B13-4A41-B742-39FD377F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428-8B6F-404D-B90D-E43444EA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085-475B-4064-859C-BF212D12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76F-F3CB-41EA-BE41-A72870CA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E12-0656-4E54-99DC-5575A33D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89E-9610-4CF5-A0E7-5F4C791F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670-1111-4F5E-8F11-E8E30080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C1D-CAEC-4AA3-B7A2-74A01F90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CE1-966D-4D44-9B96-6B317715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969-D911-46DE-862A-EC0C459D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7FC51-7C0D-4958-A648-23193009F1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