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84675"/>
        <c:axId val="73367926"/>
      </c:barChart>
      <c:catAx>
        <c:axId val="63684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67926"/>
        <c:crosses val="autoZero"/>
        <c:auto val="1"/>
        <c:lblAlgn val="ctr"/>
        <c:lblOffset val="100"/>
        <c:noMultiLvlLbl val="0"/>
      </c:catAx>
      <c:valAx>
        <c:axId val="73367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84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9E0-C8D9-44CA-B593-88E182EE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D63-1410-4C85-9303-7C2B8A70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092-4010-4212-8B8A-4D316D8A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E96-915A-4BD9-AF00-05EB2D0E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AE6-1BC1-448B-AE62-08A4950D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4AA-6D82-4357-AC2D-41710999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17B-9CB7-4313-9115-9F88290F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420-CE3A-4B05-B376-7C543C0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11F-AD79-457D-8469-DC1D1273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A3D-0738-4413-8B31-90248FD3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F0C-C048-4BBE-BFC7-DB00847C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A6A-53B3-49D1-96A9-DEA93CBC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15EB7-3588-4BAD-98F6-617A1539E8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