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12963"/>
        <c:axId val="33417516"/>
      </c:barChart>
      <c:catAx>
        <c:axId val="221129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17516"/>
        <c:crosses val="autoZero"/>
        <c:auto val="1"/>
        <c:lblAlgn val="ctr"/>
        <c:lblOffset val="100"/>
        <c:noMultiLvlLbl val="0"/>
      </c:catAx>
      <c:valAx>
        <c:axId val="334175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129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7BF5-DACA-4985-96A4-0F1E8799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B4C2-7150-4A03-AB92-4839253A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E202-A909-4002-9212-1CB99CAD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9066-47DE-4849-B0B1-58167241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9E65-050E-4F4B-B09C-BE152C52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4354-A0C7-4649-8BC2-65ECCEEB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CEB2-F3DB-40E9-9909-1254DC57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3EBD-9B83-4990-A810-E9E650C6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59D9-F39A-42CA-82B6-CE216977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9522-F673-4EF0-9B75-C0E24C77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A4C7-4B6F-487A-900C-A42CE8C0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8EFC-DDCB-44E0-97C8-CDC36EFE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CEDF2-DB90-48F1-B110-C7DC00C686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