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74617"/>
        <c:axId val="95974326"/>
      </c:barChart>
      <c:catAx>
        <c:axId val="64674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74326"/>
        <c:crosses val="autoZero"/>
        <c:auto val="1"/>
        <c:lblAlgn val="ctr"/>
        <c:lblOffset val="100"/>
        <c:noMultiLvlLbl val="0"/>
      </c:catAx>
      <c:valAx>
        <c:axId val="95974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74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308-C4F0-4E2A-8A9B-12568953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8D8-8506-4E6E-999B-4E50A74F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8ED-A850-414A-B5CD-194DE002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D7E-6D9F-4518-A18A-3B5326C0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F07-B607-4538-8022-DEECA973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174-CB25-48EE-8F35-A78C31CE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60D-D100-4648-ABC2-1BE77A57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ACA-584E-45A0-B22F-12A8A4E9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BDD-6B55-433B-8271-7D015023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615-8A40-4B25-8A80-54CE1B7B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090-3670-45D9-8DB6-82A8421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3A9-12E9-4100-945E-D9228031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40367-A897-41F9-9483-8C139F289E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