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18037"/>
        <c:axId val="3696218"/>
      </c:barChart>
      <c:catAx>
        <c:axId val="96218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6218"/>
        <c:crosses val="autoZero"/>
        <c:auto val="1"/>
        <c:lblAlgn val="ctr"/>
        <c:lblOffset val="100"/>
        <c:noMultiLvlLbl val="0"/>
      </c:catAx>
      <c:valAx>
        <c:axId val="3696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8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7F9-F598-4337-ACD2-EBFA0FB6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6A8-5631-43E0-A174-FFBDAC6E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026-23AA-49C8-B4FA-A981046B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DCD-6D9F-45A0-B7EA-B7FCC3EF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1EA-AAE1-4110-A4CA-D1074660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76A-ADCC-4AB6-8902-44A8E55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8D4-12EB-45A2-B9E2-A222AC8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476-859A-47B5-A972-2D9800C9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DEB-AFC8-4D5D-BACA-619449F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839-47BD-4112-A997-B8AF890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C2E-388B-4549-A614-84C6EBB2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EDA-02CB-4E33-8A39-087EAFB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5CFF2-C2C4-4270-A350-99C92587AC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