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274335"/>
        <c:axId val="79943729"/>
      </c:barChart>
      <c:catAx>
        <c:axId val="502743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43729"/>
        <c:crosses val="autoZero"/>
        <c:auto val="1"/>
        <c:lblAlgn val="ctr"/>
        <c:lblOffset val="100"/>
        <c:noMultiLvlLbl val="0"/>
      </c:catAx>
      <c:valAx>
        <c:axId val="799437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743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33D5-6C48-4B89-A95A-AC2CF4C0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522F-3078-4A2C-B974-92E1F148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2CA3-A568-4CC2-B06C-C6E7AE67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8C03-AADB-462B-B52C-C3686D75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5BC-9EC1-48B3-9538-F0AF09E7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C238-6D26-4842-9F1F-AE37CE24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33C5-FEC2-4DBD-9E55-AA80DECE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0EF0-73D7-4D1C-8DED-2C08D0F7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C332-199B-4507-A9E9-6EE4A045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0BC-6710-49A9-8D8D-8A9FB770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1A54-7108-439C-8BD3-A89AFC25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FB42-D441-4BC8-BC27-1C7256CA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7D40F-9B22-44CA-B9C4-9050926B38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