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72216"/>
        <c:axId val="6799006"/>
      </c:barChart>
      <c:catAx>
        <c:axId val="92272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006"/>
        <c:crosses val="autoZero"/>
        <c:auto val="1"/>
        <c:lblAlgn val="ctr"/>
        <c:lblOffset val="100"/>
        <c:noMultiLvlLbl val="0"/>
      </c:catAx>
      <c:valAx>
        <c:axId val="6799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72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EFD-94C2-493D-A747-490FDCC1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9F-7B6B-4942-9319-D1FCF7BA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B69-8B09-46EF-B89B-5AED5E4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325-8E79-4B1F-B785-4785F06D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E3F-2892-45EC-85DE-07AA9117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F94-FFED-4828-84E5-892497C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42F-2F89-4731-B06B-1C741BCC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4D9-2265-4F53-BF3C-E7769E0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384-8472-47BC-8A02-A84F9C9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F30-5C24-4DDD-ADF3-24D4562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131-F1D4-4BED-B310-A1B0CC6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DEA-24CA-4237-B54F-FB98F26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0FDB4-469C-46C4-8375-549F710AFA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