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093764"/>
        <c:axId val="39575419"/>
      </c:barChart>
      <c:catAx>
        <c:axId val="220937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75419"/>
        <c:crosses val="autoZero"/>
        <c:auto val="1"/>
        <c:lblAlgn val="ctr"/>
        <c:lblOffset val="100"/>
        <c:noMultiLvlLbl val="0"/>
      </c:catAx>
      <c:valAx>
        <c:axId val="395754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937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8D8E-36AF-4BE0-9046-29BEDF9AC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D053-A91A-44D2-93CD-9CDBEB23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6FE1-9F65-418D-AB5C-6A8E783E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35BD-A6E9-41FE-8B3D-586C3207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DAED-47DE-4806-8F87-0FE93255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7218-D7AA-4981-B02E-A740DF79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5A3D-01C2-46EF-A7BF-86AF8A11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4713-3328-40B6-92D7-DC2F6F6D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EFE3-8E4B-4714-9C4C-EBDB9716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2752-6DBB-44FF-9603-FD167B26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6862-196F-48DF-AE71-B31DEF6E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A4B9-68B2-4233-A982-3D48FAD2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2A651-63A4-4E2B-A642-2CDCE94589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