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05895"/>
        <c:axId val="58843100"/>
      </c:barChart>
      <c:catAx>
        <c:axId val="7905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43100"/>
        <c:crosses val="autoZero"/>
        <c:auto val="1"/>
        <c:lblAlgn val="ctr"/>
        <c:lblOffset val="100"/>
        <c:noMultiLvlLbl val="0"/>
      </c:catAx>
      <c:valAx>
        <c:axId val="58843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5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932-1AB9-4754-99F0-AE1C3CD9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8FB-9D12-4744-AB14-27923693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81B8-C461-4E5E-974D-54CA1F02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487C-4189-47C7-B062-85DA345A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92F0-EE12-416F-AC58-D79DEE34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F4C-07FB-45A5-81E9-9F202C17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C02-675C-481D-AF90-8689503D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C4CC-EF13-474B-8536-B9B45092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EDF0-0552-4461-88E7-38C1077B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FB41-BE92-48A3-9957-3C2A468C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53B-AAE3-48D2-B357-763C8499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AD8-A665-4DE3-B647-13B9D221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5BB44-2D9D-4D4E-A34E-67E0C551FF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