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34483"/>
        <c:axId val="13600422"/>
      </c:barChart>
      <c:catAx>
        <c:axId val="39634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00422"/>
        <c:crosses val="autoZero"/>
        <c:auto val="1"/>
        <c:lblAlgn val="ctr"/>
        <c:lblOffset val="100"/>
        <c:noMultiLvlLbl val="0"/>
      </c:catAx>
      <c:valAx>
        <c:axId val="13600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34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FA0-D519-4F7C-9990-B742E5E1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558-7A26-4ADA-9962-B4E35E4F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8F9-4CDC-4803-9991-77FC8C8E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3D7-C37A-4B49-8AAB-F5E84F2F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802-3FFD-4D0A-B383-54970A79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F2E-F3FB-4C13-BA5E-ED0DE6C9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97E-977D-4F32-B198-96918776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16E-4FDF-4DE9-96DA-D9692A89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173-A12A-4342-8A1B-A979CA6A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EDD-065C-42AA-BFB9-E563893A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D32-8C16-4080-A35F-FECF2353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DC9-8D11-4E0F-B0B5-6B5CF5EA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8F8CB-76D3-4540-B6F6-8782DA0F54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