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22521"/>
        <c:axId val="10525459"/>
      </c:barChart>
      <c:catAx>
        <c:axId val="97122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25459"/>
        <c:crosses val="autoZero"/>
        <c:auto val="1"/>
        <c:lblAlgn val="ctr"/>
        <c:lblOffset val="100"/>
        <c:noMultiLvlLbl val="0"/>
      </c:catAx>
      <c:valAx>
        <c:axId val="10525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22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97C-22E0-409A-B3A6-F94DB295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36B-4CC6-4151-A118-F3210D44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4B9-A55C-4B83-921A-6EBE22E3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F0A-9641-4DA6-B61F-3FFB8AAB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BEA-019A-4193-9FBA-C7206F8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B41-24BF-4E20-B978-40BAD19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686-C0E8-4898-91EC-78FFA977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268-75C4-4706-B23B-61611C8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CA0-6179-44DC-8948-DAA99659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757-9980-4997-82C9-18314CAF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250-CD05-44AF-977D-BB38B0F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092-29E8-4EAF-A714-803E64C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AB435-E477-4785-A122-0135B567C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