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636"/>
        <c:axId val="41953952"/>
      </c:barChart>
      <c:catAx>
        <c:axId val="388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53952"/>
        <c:crosses val="autoZero"/>
        <c:auto val="1"/>
        <c:lblAlgn val="ctr"/>
        <c:lblOffset val="100"/>
        <c:noMultiLvlLbl val="0"/>
      </c:catAx>
      <c:valAx>
        <c:axId val="41953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842-0C27-4ABE-8DC2-A28796F4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E91-2B57-4CAF-8BE8-BF810872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75D-86BB-4110-B30B-72DB1382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74B-448C-4D75-BA4C-110DD0B7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D5F-4926-4B30-BDEF-D0691CD8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E2F-ECBF-4833-9347-22BDD7F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032-BD5A-46BA-88C9-E203B6E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44C-3287-40F9-8179-784F9DCD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307-73F3-4D76-8BB1-A1B45DE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012-D84B-4B22-8C70-E2010FB1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A2D-33A4-4A27-B619-CF6A661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5DD-61EC-44F5-9356-1BA0BD3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522FA-A186-4590-B9BD-E9D4BA660C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