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5280"/>
        <c:axId val="22218458"/>
      </c:barChart>
      <c:catAx>
        <c:axId val="6835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18458"/>
        <c:crosses val="autoZero"/>
        <c:auto val="1"/>
        <c:lblAlgn val="ctr"/>
        <c:lblOffset val="100"/>
        <c:noMultiLvlLbl val="0"/>
      </c:catAx>
      <c:valAx>
        <c:axId val="22218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5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F5F-769B-4A74-8B8B-870EE66A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16D-2361-49B8-B694-0BF635F2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915-B5E0-4408-B463-A70A72DA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D5F-09D7-46A0-953E-09A7392D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B7D-49BC-44E7-9A93-DC4EBC06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3F8-128C-4858-A06D-763ACB4B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AFF-408F-4A7A-8125-28C65BF4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A68-4E0D-4B37-B74F-FD20891B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2E9-402F-4ACA-800F-ACFF12D2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3DD-AEFA-452A-9DCE-710BE58B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02C-67EE-4780-9D22-EF8D9544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889-EBFE-4378-BFC3-3568FB71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8B6C3-D20E-4745-B6E3-D205B315A1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