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38993"/>
        <c:axId val="48581883"/>
      </c:barChart>
      <c:catAx>
        <c:axId val="51338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1883"/>
        <c:crosses val="autoZero"/>
        <c:auto val="1"/>
        <c:lblAlgn val="ctr"/>
        <c:lblOffset val="100"/>
        <c:noMultiLvlLbl val="0"/>
      </c:catAx>
      <c:valAx>
        <c:axId val="48581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8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D03-83CD-4CD6-883C-CF6178B2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E24-1AEB-487C-A004-FC2A2E7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C26-36B4-4F3B-A143-55E57D76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027-B5C8-49A5-8E6F-F9C70FA5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6D2-D9A3-43CF-B4E2-118E031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9C5-E82A-4173-AB46-085F2534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12A-8C28-4642-9F66-2F61B56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F76-336B-4373-85C2-8DBA412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8F8-B5B6-4925-8AD2-14327F40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60A-8975-4284-8E0A-8078B9E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98F-6F40-4CF1-9C4C-95FD892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8CC-3CB3-4083-A01F-888756F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5648-E7A8-4429-B6AC-6E4A14E4D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