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981982"/>
        <c:axId val="86827466"/>
      </c:barChart>
      <c:catAx>
        <c:axId val="289819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7466"/>
        <c:crosses val="autoZero"/>
        <c:auto val="1"/>
        <c:lblAlgn val="ctr"/>
        <c:lblOffset val="100"/>
        <c:noMultiLvlLbl val="0"/>
      </c:catAx>
      <c:valAx>
        <c:axId val="86827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9819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F78B-E755-4058-83B1-EFC2B73E6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B1F5-1747-4E50-BC1F-DD1BFF6A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76C7-FB70-4D7E-B614-C74384054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15D0-ED17-4F0E-A0CC-1079BCDDC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CBDE-B912-4F71-8AB2-2A3D23E6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C47D-1FC8-4EAC-93FB-AA6774010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4544-F2E3-4EE3-8BFD-FCAC485D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773D-F9C4-46A9-B096-5879DC79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231E-5197-4811-BE36-EE4C612C6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A02-2D29-4358-BC28-CEB0FA04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7384-8A3C-416A-B161-E2A385F6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72F5-50DD-4732-A4A3-479875B95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20BB4-119F-4318-826A-7F948E42382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