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60760"/>
        <c:axId val="41407732"/>
      </c:barChart>
      <c:catAx>
        <c:axId val="31660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7732"/>
        <c:crosses val="autoZero"/>
        <c:auto val="1"/>
        <c:lblAlgn val="ctr"/>
        <c:lblOffset val="100"/>
        <c:noMultiLvlLbl val="0"/>
      </c:catAx>
      <c:valAx>
        <c:axId val="41407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0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FB8-C70D-48B8-BBF5-E1CAEDB1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30D-547B-4E22-B9EF-13CF547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348-EA20-4838-88AC-62CB9307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04F-57DE-453D-9C7A-F7649422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CC1-53E7-4A18-9BEA-3AF786D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838-A4A4-47A9-9F16-D4BF6C4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E4F-6DA1-4F8D-A69A-CF001D53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017-6C56-4508-88AE-67DFF439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223-174C-4A42-AA4D-C5777EE9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E6D-8A2C-48E4-ADAF-C8EEC2F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71D-95EE-4EC7-9267-A72F2CA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528-3140-45B5-AAA6-6C4EB57D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2CBC-FA63-4F39-AAF4-8F061EB9BF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