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727124"/>
        <c:axId val="77072404"/>
      </c:barChart>
      <c:catAx>
        <c:axId val="837271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072404"/>
        <c:crosses val="autoZero"/>
        <c:auto val="1"/>
        <c:lblAlgn val="ctr"/>
        <c:lblOffset val="100"/>
        <c:noMultiLvlLbl val="0"/>
      </c:catAx>
      <c:valAx>
        <c:axId val="770724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271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A8E9-F7E6-4E87-AFA5-5F5B6A66F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7CA6-B4B5-4DBA-9584-D3E32594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0F89-A533-42B4-99A5-61502F633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99B0-57B7-4D9E-A2DD-5619E6163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0495-FCC3-4348-A183-9BEE3EC4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D751-6641-443F-BD6D-9DF7FB8B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B952-5B3B-47C7-8A60-C7D84961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6986-1B96-455A-9718-3EE41FB7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C0A6-0278-4CEF-AD93-C28ADC63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BF64-8120-4109-B60D-CA959167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BDB9-616E-4D82-BE68-5DF36EAD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7AE9-1BA0-46B8-8599-A33F9D41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604D5A-8E6F-44FC-B425-51C9EC2375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